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FCEA-81D2-4D03-A64F-5CB75C73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B281-2A1B-4C5C-8E61-F4032C6F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CC24-8424-435E-B644-9C4DCF2D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C409-48CB-4AD1-899B-3F176735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0543-B19D-4AA7-8759-6762BCFE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4D9-491A-458C-9114-F84DAD2F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F7FB-9D24-462D-800C-4D0DFA4D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2207-B03B-40D1-BD43-C4ACAC28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1BDB-E165-4EC4-B8F8-2986D5A9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74E3-5E1D-406A-B312-3CB18E0F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9834-444E-43DF-ABBE-6772F7B2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F29B-537C-4294-BCB8-DFCB3DFE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13FF-C141-494C-85A4-366806B2B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fo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9:01:13Z</dcterms:created>
  <dc:creator>holzhäuser</dc:creator>
  <dc:description/>
  <dc:language>en-US</dc:language>
  <cp:lastModifiedBy>holzhäuser</cp:lastModifiedBy>
  <dcterms:modified xsi:type="dcterms:W3CDTF">2005-04-15T09:01:25Z</dcterms:modified>
  <cp:revision>1</cp:revision>
  <dc:subject/>
  <dc:title>Testfolie</dc:title>
</cp:coreProperties>
</file>