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D141-5F75-49A1-8687-3AF418AB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EECA-0F89-4426-978D-B30A4953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14D7-C85F-41C3-81FC-CACB14724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026A-BB42-4B91-819A-B6E43C4ED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3EA7-7CF7-4B7F-9DE6-29105929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5171-6D84-4FF5-B2C0-9D7941EB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9B24-F3D2-4DD7-BA78-BDE7D0D2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E021-7065-4107-B5A5-FC595748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6C64-FE57-426F-851B-4D39CF93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078B-A65D-4B50-B0A8-4E9C1555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B01C-DAFB-4143-9D9B-33C8FA1C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ED2B-B85C-4464-A477-0C345B17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C088-49C9-431B-8542-10ABECEFE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fol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9:01:13Z</dcterms:created>
  <dc:creator>holzhäuser</dc:creator>
  <dc:description/>
  <dc:language>en-US</dc:language>
  <cp:lastModifiedBy>holzhäuser</cp:lastModifiedBy>
  <dcterms:modified xsi:type="dcterms:W3CDTF">2005-04-15T09:01:25Z</dcterms:modified>
  <cp:revision>1</cp:revision>
  <dc:subject/>
  <dc:title>Testfolie</dc:title>
</cp:coreProperties>
</file>