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3D15-963C-4069-9397-044F6454F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524F-6FCE-4BF2-A760-C6583769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46BA-96AC-4241-B690-538129EEF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B713-6A85-4FAB-B201-69CC0BAC3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4175-2E4C-4E9F-B8F4-EBC67B45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D505-1EA1-42CE-B7ED-25677884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8363-0929-4D37-9162-7B86CC88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F061-1DD9-439C-BB10-DC27ADA8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0B29-2158-4144-85CA-6350F1C8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F321-0826-4B61-BF64-817BC3D2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A020-F996-4F79-B1CE-BEB10640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2DB8-D3E7-442D-B50D-D630229D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0989-A5E8-473E-9205-5B3473D67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fol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9:01:13Z</dcterms:created>
  <dc:creator>holzhäuser</dc:creator>
  <dc:description/>
  <dc:language>en-US</dc:language>
  <cp:lastModifiedBy>holzhäuser</cp:lastModifiedBy>
  <dcterms:modified xsi:type="dcterms:W3CDTF">2005-04-15T09:01:25Z</dcterms:modified>
  <cp:revision>1</cp:revision>
  <dc:subject/>
  <dc:title>Testfolie</dc:title>
</cp:coreProperties>
</file>