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3AC4D-F981-47C0-AF73-79A12DAD5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8999C-6725-489C-8D03-55FC817D0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80849-4B62-4A4F-A753-A929E6301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200ED-3FDF-4056-A77E-4C08309D6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C041B-4781-49F7-B8EB-ABF9C1B99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14137-751A-4F73-9EB3-102EDD56E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2A679-DE2F-4706-98B5-56CBB374A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E5B61-520F-41E2-9907-908D5605C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41A53-65F0-44EF-A642-5BB8F37B0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8673F-E66B-4C4C-B1D2-350B63E4A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392BA-8025-4BFD-9FAD-ECE6BE22E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A3BB9-55F2-476D-B631-91BD131D1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F7AC3-D1E4-4CB6-827C-9E817A487E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stfol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5T09:01:13Z</dcterms:created>
  <dc:creator>holzhäuser</dc:creator>
  <dc:description/>
  <dc:language>en-US</dc:language>
  <cp:lastModifiedBy>holzhäuser</cp:lastModifiedBy>
  <dcterms:modified xsi:type="dcterms:W3CDTF">2005-04-15T09:01:25Z</dcterms:modified>
  <cp:revision>1</cp:revision>
  <dc:subject/>
  <dc:title>Testfolie</dc:title>
</cp:coreProperties>
</file>