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CC1-F1E1-4318-B44B-36BC60E8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8A1-964E-4E3C-A351-1D92A8B5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3AFF-A333-41AB-A99B-2CF89910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136-778B-42B2-8887-DB9DCB5C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AE44-A1CE-461F-B26E-922EF267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224F-746F-45B0-9EA6-E0720955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ADD-A605-4ED3-97AB-4129F613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DC0-69DE-4EEA-88C0-360E9F1E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1372-72B3-4576-9AEB-8075EF77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3F6D-D4D6-4E11-ADB0-920DAE0F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2880-122E-47C9-96BD-74922E14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A68E-D750-470D-91A6-C34F1D69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B36F-E598-457B-887B-7D1B389AC5A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ocol Buf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Portable binary serialization, the Google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proble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r high volume work, no ideal serializ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Xml/data-contracts: (relatively) expensive to process; large due to repeated t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ap: as xml, but m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naryFormatter (/NDCS): proprietary closed [non-]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spoke: lots of work; lots of potential for 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protobu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ocol Buffers defines two thing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 compact binary serialization format (pb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 text-based descriptor language (.prot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mplementation specific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untime serialization library / co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proto parser / code gene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obuf-net is one of 3 in-progress efforts for .N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Documents and Settings\mgravell\Desktop\google.gif"/>
          <p:cNvPicPr/>
          <p:nvPr/>
        </p:nvPicPr>
        <p:blipFill>
          <a:blip r:embed="rId1"/>
          <a:stretch/>
        </p:blipFill>
        <p:spPr>
          <a:xfrm>
            <a:off x="7072200" y="500040"/>
            <a:ext cx="1667160" cy="6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 .pro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et another descriptor language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essage Test1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required int32 a = 1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essage Test3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ptional Test1 c = 3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ervice SearchService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rpc Search (SearchRequest) returns (SearchResponse)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 why both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pac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 string field names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(contrast: XmlSerializer; DataContractSerializ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s variable-length encoding where sen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imal framing overh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rtab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oss-platform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(contrast: BinaryFormatt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tensible (roundtrip-saf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protobuf-net works with .NET 2.0; .NET 3.0; CF 2.0; CF 3.0; Silverlight 2.0; Mon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as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fficient to par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ptimised for common scenarios, but doesn’t support every complex worst-case scenari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ok famili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osely related to data/service-contr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DataContra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class Test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DataMember(Name="a", Order=1, IsRequired=true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int A {get;set;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DataContra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class Test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DataMember(Name="c", Order=3, IsRequired=false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Test1 C {get;set;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ServiceContra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interface ISearchServi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OperationContra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earchResponse Search(SearchRequest request)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ere can we use 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mmun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mo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ckets / http (proto-rpc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r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le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tabase BL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QL/CL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isting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Works with common framework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C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INQ-based data-contra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XmlType / XmlEl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n be used to replace, or in parallel with, standard serializ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Serializ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XmlSerializ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ustom attributes for full contr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an also be specified at the class (rather than member) for use with partial clas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0:30:41Z</dcterms:created>
  <dc:creator>Marc Gravell</dc:creator>
  <dc:description/>
  <dc:language>en-US</dc:language>
  <cp:lastModifiedBy>Marc Gravell</cp:lastModifiedBy>
  <dcterms:modified xsi:type="dcterms:W3CDTF">2008-11-11T12:23:42Z</dcterms:modified>
  <cp:revision>14</cp:revision>
  <dc:subject/>
  <dc:title>Protocol Buffers</dc:title>
</cp:coreProperties>
</file>