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738-EABD-45D3-B082-9A56E705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2AB-8C42-4CD0-8A86-AB941C28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A99-1532-41BF-BDB4-859EE935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C19-7A28-479F-A999-4215CC27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C00-94B1-4F20-8B32-F8710379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79D-521D-4054-9E3A-C1AF41A3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176-EE3C-4C1C-8771-12127631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306-AD1D-449F-9738-59644E27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172-1DA2-4D3F-B3F8-5D5B37CD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2BA-E4FB-49DC-AEB0-BDF94117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201-F562-4C19-821C-1789D95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00A-E186-4557-9CA4-51C238B1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C8AF-8896-4061-A6DA-BB9BBA0B6FA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ocol Buf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ortable binary serialization, the Google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prob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high volume work, no ideal serializ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ml/data-contracts: (relatively) expensive to process; large due to repeated t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ap: as xml, but m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naryFormatter (/NDCS): proprietary closed [non-]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spoke: lots of work; lots of potential for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protobu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ocol Buffers defines two thing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compact binary serialization format (p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text-based descriptor language (.prot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mplementation specific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untime serialization library / c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proto parser / code gene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obuf-net is one of 3 in-progress efforts for .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Documents and Settings\mgravell\Desktop\google.gif"/>
          <p:cNvPicPr/>
          <p:nvPr/>
        </p:nvPicPr>
        <p:blipFill>
          <a:blip r:embed="rId1"/>
          <a:stretch/>
        </p:blipFill>
        <p:spPr>
          <a:xfrm>
            <a:off x="7072200" y="500040"/>
            <a:ext cx="166716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.pro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et another descriptor languag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ssage Test1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equired int32 a = 1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ssage Test3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ptional Test1 c = 3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ervice SearchService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pc Search (SearchRequest) returns (SearchResponse)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 why both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c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string field names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(contrast: XmlSerializer; DataContractSerializ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s variable-length encoding where sen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al framing overh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rtab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oss-platform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(contrast: BinaryFormatt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tensible (roundtrip-saf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protobuf-net works with .NET 2.0; .NET 3.0; CF 2.0; CF 3.0; Silverlight 2.0; Mon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as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fficient to par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mised for common scenarios, but doesn’t support every complex worst-case scenari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famili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osely related to data/service-contr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class Test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Member(Name="a", Order=1, IsRequired=true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int A {get;set;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class Test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Member(Name="c", Order=3, IsRequired=false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Test1 C {get;set;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Service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interface ISearchServ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Operation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earchResponse Search(SearchRequest request)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can we use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mo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ckets / http (proto-rpc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l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base BL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QL/CL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isting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orks with common framework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NQ-based data-contr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XmlType / XmlE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used to replace, or in parallel with, standard serializ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Serializ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XmlSerializ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ustom attributes for full cont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also be specified at the class (rather than member) for use with partial cla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0:30:41Z</dcterms:created>
  <dc:creator>Marc Gravell</dc:creator>
  <dc:description/>
  <dc:language>en-US</dc:language>
  <cp:lastModifiedBy>Marc Gravell</cp:lastModifiedBy>
  <dcterms:modified xsi:type="dcterms:W3CDTF">2008-11-11T12:23:42Z</dcterms:modified>
  <cp:revision>14</cp:revision>
  <dc:subject/>
  <dc:title>Protocol Buffers</dc:title>
</cp:coreProperties>
</file>