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F9E-B3FC-4B9B-9D7B-8EB8149C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9FC-AF4A-4AC1-87B2-DE6A569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386-0629-4B27-974F-68424E2E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55F-305C-444F-8C94-92ED514B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38A-0805-44A2-8759-4F3BEF55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07D-3AC6-4D60-9524-6B39C41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B4F-D7E7-49FF-B261-882754E1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6CB-539D-4C69-BEC5-E83C150F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3CF-642A-4B2A-9C35-D6CF39B2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BD8-25D7-42BC-85D9-314F1AF6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B0F-7F55-4E20-A7CC-47C6F223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F25-1F21-4219-A7B0-DD4516C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81E7-1568-4678-813E-15C80ABD20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ocol Buf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ortable binary serialization, the Googl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high volume work, no ideal serializ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/data-contracts: (relatively) expensive to process; large due to repeate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ap: as xml, but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naryFormatter (/NDCS): proprietary closed [non-]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spoke: lots of work; lots of potential for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protobu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col Buffers defines two th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mpact binary serialization format (p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text-based descriptor language (.prot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mplementation specifi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untime serialization library /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proto parser / code gen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buf-net is one of 3 in-progress efforts for .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mgravell\Desktop\google.gif"/>
          <p:cNvPicPr/>
          <p:nvPr/>
        </p:nvPicPr>
        <p:blipFill>
          <a:blip r:embed="rId1"/>
          <a:stretch/>
        </p:blipFill>
        <p:spPr>
          <a:xfrm>
            <a:off x="7072200" y="500040"/>
            <a:ext cx="16671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.pro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t another descriptor languag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1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quired int32 a = 1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3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ptional Test1 c = 3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rvice SearchService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pc Search (SearchRequest) returns (SearchResponse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 why bo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c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string field name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XmlSerializer; DataContractSerializ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s variable-length encoding where 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al framing over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r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oss-platform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BinaryFormatt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nsible (roundtrip-saf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protobuf-net works with .NET 2.0; .NET 3.0; CF 2.0; CF 3.0; Silverlight 2.0; Mon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as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icient to pa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mised for common scenarios, but doesn’t support every complex worst-case scen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famili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osely related to data/service-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a", Order=1, IsRequired=tru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 A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c", Order=3, IsRequired=fals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Test1 C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Service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erface ISearchServ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Operation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archResponse Search(SearchRequest request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can we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kets / http (proto-rpc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BL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QL/CL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s with common framewor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Q-based data-contr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XmlType / Xml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used to replace, or in parallel with, standard serializ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Xml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ustom attributes for full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also be specified at the class (rather than member) for use with part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0:30:41Z</dcterms:created>
  <dc:creator>Marc Gravell</dc:creator>
  <dc:description/>
  <dc:language>en-US</dc:language>
  <cp:lastModifiedBy>Marc Gravell</cp:lastModifiedBy>
  <dcterms:modified xsi:type="dcterms:W3CDTF">2008-11-11T12:23:42Z</dcterms:modified>
  <cp:revision>14</cp:revision>
  <dc:subject/>
  <dc:title>Protocol Buffers</dc:title>
</cp:coreProperties>
</file>