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6A0E-F4E5-44D6-8693-00E4106D2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4796-788B-40C7-84DA-39408085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2910-F581-4273-88AC-D25D3E99D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B062-E259-4DA7-8023-E462822D5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8B14-17D9-4E37-B1FA-A4A17EEC8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60BF-F272-45E5-9F52-75EA8539B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C386A-8420-4224-B305-E6146DE51B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E9DB-36B9-4516-83FF-D5E729AE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8BCD-2A3D-4DE7-8893-A5B5F49EE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7256-488B-42CB-918E-0272016CC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2775-74F6-4687-8831-0627FD838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DF111-105D-4FE2-819C-CD6D3314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36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A0168-00BF-48F5-9816-F3E0B138043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Protocol Buff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Portable binary serialization, the Google wa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problem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For high volume work, no ideal serializer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Xml/data-contracts: (relatively) expensive to process; large due to repeated tag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Soap: as xml, but mo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inaryFormatter (/NDCS): proprietary closed [non-]standar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Bespoke: lots of work; lots of potential for err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protobuf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col Buffers defines two thing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compact binary serialization format (pb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A text-based descriptor language (.proto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Implementation specific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Runtime serialization library / cod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.proto parser / code generator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protobuf-net is one of 3 in-progress efforts for .N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C:\Documents and Settings\mgravell\Desktop\google.gif"/>
          <p:cNvPicPr/>
          <p:nvPr/>
        </p:nvPicPr>
        <p:blipFill>
          <a:blip r:embed="rId1"/>
          <a:stretch/>
        </p:blipFill>
        <p:spPr>
          <a:xfrm>
            <a:off x="7072200" y="500040"/>
            <a:ext cx="1667160" cy="61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at is a .proto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Yet another descriptor language..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1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equired int32 a = 1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message Test3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optional Test1 c = 3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rvice SearchService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rpc Search (SearchRequest) returns (SearchResponse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4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2000"/>
                                        <p:tgtEl>
                                          <p:spTgt spid="4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000"/>
                                        <p:tgtEl>
                                          <p:spTgt spid="4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o why bothe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ompac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no string field names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XmlSerializer; DataContractSerializ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uses variable-length encoding where sensi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minimal framing overhea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ortabl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cross-platform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 (contrast: BinaryFormatt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xtensible (roundtrip-saf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(protobuf-net works with .NET 2.0; .NET 3.0; CF 2.0; CF 3.0; Silverlight 2.0; Mon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as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efficient to par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mised for common scenarios, but doesn’t support every complex worst-case scenario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5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5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0"/>
                                        <p:tgtEl>
                                          <p:spTgt spid="5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Look familiar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losely related to data/service-contrac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a", Order=1, IsRequired=tru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 A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class Test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DataMember(Name="c", Order=3, IsRequired=false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Test1 C {get;set;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Service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public interface ISearchServic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[OperationContract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SearchResponse Search(SearchRequest request);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GB" sz="1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2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5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8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500"/>
                                        <p:tgtEl>
                                          <p:spTgt spid="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5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500"/>
                                        <p:tgtEl>
                                          <p:spTgt spid="5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500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500"/>
                                        <p:tgtEl>
                                          <p:spTgt spid="5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2" dur="500"/>
                                        <p:tgtEl>
                                          <p:spTgt spid="5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5" dur="500"/>
                                        <p:tgtEl>
                                          <p:spTgt spid="5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5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5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4" dur="500"/>
                                        <p:tgtEl>
                                          <p:spTgt spid="5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5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5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500"/>
                                        <p:tgtEl>
                                          <p:spTgt spid="5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500"/>
                                        <p:tgtEl>
                                          <p:spTgt spid="53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Demo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Where can we use it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Remo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ockets / http (proto-rpc?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Persist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File 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Database BLO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SQL/CLR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8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500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500"/>
                                        <p:tgtEl>
                                          <p:spTgt spid="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Existing data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Works with common framework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WC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LINQ-based data-contract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XmlType / XmlElemen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an be used to replace, or in parallel with, standard serializer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IXmlSerializabl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alibri"/>
              </a:rPr>
              <a:t>Custom attributes for full contro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alibri"/>
              </a:rPr>
              <a:t>Can also be specified at the class (rather than member) for use with partial class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4T10:30:41Z</dcterms:created>
  <dc:creator>Marc Gravell</dc:creator>
  <dc:description/>
  <dc:language>en-US</dc:language>
  <cp:lastModifiedBy>Marc Gravell</cp:lastModifiedBy>
  <dcterms:modified xsi:type="dcterms:W3CDTF">2008-11-11T12:23:42Z</dcterms:modified>
  <cp:revision>14</cp:revision>
  <dc:subject/>
  <dc:title>Protocol Buffers</dc:title>
</cp:coreProperties>
</file>