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44113" cy="7775575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5CC4-173D-4319-B849-FABD7217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F172-1749-47E4-ACA7-8A4C107B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AA25-E655-447E-9F6A-20903971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61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517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016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61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517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7CC4-4F2A-4EA1-91FA-F92ACA1B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00160" y="672840"/>
            <a:ext cx="95407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E5AE-800C-4B11-A0F0-FC435B1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61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51720" y="21254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016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261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51720" y="4778640"/>
            <a:ext cx="307188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1B26-1F42-4F94-9B83-8074E606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C559-5082-4131-9E62-54DBF6B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690B-00DA-426A-B402-C589D49D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0160" y="672840"/>
            <a:ext cx="954072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4200-289B-40E9-9532-4FA59D44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5FDF-0E3D-4995-8B05-30FD040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960" y="47786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6B01-AC27-4630-84FB-B5F98F0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01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960" y="2125440"/>
            <a:ext cx="46555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0160" y="4778640"/>
            <a:ext cx="9540720" cy="2422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0C16-C315-4CE6-817C-03A2BB4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0160" y="2125440"/>
            <a:ext cx="9540720" cy="507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192240" indent="-19224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6640" indent="-180720">
              <a:spcBef>
                <a:spcPts val="1125"/>
              </a:spcBef>
              <a:buClr>
                <a:srgbClr val="ffffff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19224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1922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18288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182880">
              <a:spcBef>
                <a:spcPts val="1125"/>
              </a:spcBef>
              <a:buClr>
                <a:srgbClr val="ffffff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182880">
              <a:spcBef>
                <a:spcPts val="1125"/>
              </a:spcBef>
              <a:buClr>
                <a:srgbClr val="ffffff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1680" y="622440"/>
            <a:ext cx="943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335800" y="7412040"/>
            <a:ext cx="1506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9 IBM Corpo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200160" y="7412040"/>
            <a:ext cx="40320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408913EE-CF18-40EB-AA7A-C71036F59606}" type="slidenum"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706040" y="7412040"/>
            <a:ext cx="652788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>
          <a:xfrm>
            <a:off x="603360" y="7412040"/>
            <a:ext cx="1103040" cy="2080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120" bIns="51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9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094680" y="257040"/>
            <a:ext cx="646200" cy="2685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00160" y="672840"/>
            <a:ext cx="9540720" cy="72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planet image"/>
          <p:cNvPicPr/>
          <p:nvPr/>
        </p:nvPicPr>
        <p:blipFill>
          <a:blip r:embed="rId2"/>
          <a:srcRect l="0" t="0" r="0" b="404"/>
          <a:stretch/>
        </p:blipFill>
        <p:spPr>
          <a:xfrm>
            <a:off x="301680" y="4156200"/>
            <a:ext cx="943776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080" y="1606680"/>
            <a:ext cx="9586800" cy="2280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1192320"/>
            <a:ext cx="943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35800" y="7412040"/>
            <a:ext cx="15066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120" bIns="511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9 IBM Corpo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94680" y="776160"/>
            <a:ext cx="646200" cy="2685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01680" y="4156200"/>
            <a:ext cx="9438840" cy="2531520"/>
            <a:chOff x="301680" y="4156200"/>
            <a:chExt cx="9438840" cy="2531520"/>
          </a:xfrm>
        </p:grpSpPr>
        <p:sp>
          <p:nvSpPr>
            <p:cNvPr id="50" name=""/>
            <p:cNvSpPr/>
            <p:nvPr/>
          </p:nvSpPr>
          <p:spPr>
            <a:xfrm>
              <a:off x="301680" y="4156200"/>
              <a:ext cx="14893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1680" y="5158800"/>
              <a:ext cx="1489320" cy="522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1680" y="6166800"/>
              <a:ext cx="4669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200" y="4156200"/>
              <a:ext cx="14893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51200" y="5158800"/>
              <a:ext cx="1489320" cy="5227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273600" y="6166800"/>
              <a:ext cx="46692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9240" y="4156200"/>
              <a:ext cx="4968360" cy="52092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9240" y="5158800"/>
              <a:ext cx="5510160" cy="52632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65080" y="6162840"/>
              <a:ext cx="1590120" cy="52488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82120" y="6166800"/>
              <a:ext cx="1489680" cy="520920"/>
            </a:xfrm>
            <a:prstGeom prst="rect">
              <a:avLst/>
            </a:prstGeom>
            <a:solidFill>
              <a:srgbClr val="fefff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2200" y="1819440"/>
            <a:ext cx="9039240" cy="45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0" algn="ctr"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63560" indent="-3240" algn="ctr">
              <a:buClr>
                <a:srgbClr val="ffffff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476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24948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24948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24948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2525760"/>
            <a:ext cx="8737560" cy="1666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s-on Automation wit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F/STAX  Parts 1 -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41360" y="1441440"/>
            <a:ext cx="37562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A – STAF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STAF Conce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AF Web 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ting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1A (Exercise 1.1)</a:t>
            </a:r>
            <a:br>
              <a:rPr sz="1700"/>
            </a:br>
            <a:r>
              <a:rPr b="0" lang="en-US" sz="17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B – Us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istering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acting with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STAF Comman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1B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ercises 1.2–1.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360" indent="-2113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1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0" y="1373040"/>
            <a:ext cx="42670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C – Levera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Vari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a simple 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ing a STAF-enabled Testc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Java Test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STAF De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1C (Exercises 1.6-1.1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1D – Debug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1D (Exercise 1.1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9040" indent="-2318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1441440"/>
            <a:ext cx="3755880" cy="55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A – STAX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STAX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ologies used in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roduction to STAX XML E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STAX Web 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Machine Enviro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the STAX Monit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ling Execution of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STAX Lo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mitting STAX Reques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2A (Exercises 2.1-2.3)</a:t>
            </a:r>
            <a:br>
              <a:rPr sz="1600"/>
            </a:b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546120" indent="-18108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2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64080" y="1373040"/>
            <a:ext cx="5249880" cy="70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B – Creating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Python in STAX XML Doc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 XML to Define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STAX XML Ele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amental Actions: &lt;script&gt;, &lt;process&gt;, &lt;stafcm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ings:  &lt;sequence&gt;, &lt;func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ing:  &lt;loop&gt;, &lt;iterate&gt;, &lt;break&gt;, &lt;continu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ditionals:  &lt;if&gt;, &lt;elseif&gt;, &lt;els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ion Blocks:  &lt;block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ging and Messages:  &lt;log&gt;, &lt;messag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a Simple STAX Jo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2C (Exercises 2.4-2.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2C – Creating more complex STAX 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Additional STAX XML Eleme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llel Execution:  &lt;parallel&gt;, &lt;paralleliterat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stcases and Timers:  &lt;testcase&gt;, &lt;tcstatus&gt;, &lt;tim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ST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2C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xercises 2.6-2.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3240" indent="-1760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41360" y="1373040"/>
            <a:ext cx="398484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A – Additional STAF Service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SExt, Z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, ResP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ust,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ay, Mis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fe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3A (Exercise 3.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B – Additional STAF Service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,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3B (Exercise 3.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3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26200" y="1347840"/>
            <a:ext cx="4495680" cy="60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C – Advanced Topic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riting custom STAF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C++, Perl, Python, and Tcl Test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Support for shell-scrip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shalled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vate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3C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(Exercise 3.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3D – Advanced Topic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mation Ta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-to-end Automation with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ys to successful STAF/STAX deploy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F Eclipse Plug-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ibuting to STA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41360" y="1373040"/>
            <a:ext cx="375624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A – Additional STAX E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als and Exceptions:  &lt;raise&gt;, &lt;signalhander&gt;, &lt;try&gt;, &lt;catch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ing Function Arg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jo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 File and Machine Ca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/LAB 4A (Exercise 4.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B – Sample STAX Job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othing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NotepadProces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DelayRequest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eckSTAFCmdRC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TestProces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ingScript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Parameters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tionParametersLogging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 4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20664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1040" y="763560"/>
            <a:ext cx="9055080" cy="565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4 Agenda (4 hours)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97600" y="1297080"/>
            <a:ext cx="494496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C – Sample STAX Jobs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Function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k.xml,  Parallel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.xml,  Testcase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r.xml,  Email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Time.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Break 4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D – Advanced Top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XD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 Ext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 Vari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Util Fun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ational Quality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XGlobal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4D (Exercises 4.2-4.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PART 4E –  STAX Debugg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eption Stack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reak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Break/LAB  4E (Exercise 4.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12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david</cp:lastModifiedBy>
  <dcterms:modified xsi:type="dcterms:W3CDTF">2011-01-26T15:57:11Z</dcterms:modified>
  <cp:revision>362</cp:revision>
  <dc:subject/>
  <dc:title>Slide 1</dc:title>
</cp:coreProperties>
</file>