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D54-B51C-4BAC-B6D8-CC290A83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F52-4707-4C35-A62E-E7CDC6F4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1E6-7B39-459B-AFCA-5AA06C36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83C-846B-4572-9638-6B4A0B79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75-063F-4AA3-93D4-9DA7927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2C9-C6CE-491D-89A9-2EB2711C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85C-418E-4F59-A8C8-18AD842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63F-2884-42E1-99B0-C9B27DE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930-24A8-453C-9F41-3E18FE2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08C-C7C4-4E48-9B5E-D1C5C010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561-0A48-4C70-9F1C-E31AA41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218-606D-4715-B681-45D6A4E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5EB6-7197-4119-B2FB-FBFBEA5DB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2895480"/>
            <a:ext cx="100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533520"/>
            <a:ext cx="1828800" cy="1828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1=Global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Var2=Global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666880"/>
            <a:ext cx="167616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1=WAS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Var2=WAS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666880"/>
            <a:ext cx="160020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1=DB2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2Var2=DB2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724280"/>
            <a:ext cx="213336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SphereFV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lobalVar2=OverrideGlobal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1=WASValue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SVTVar2=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Var2=OverrideWASValue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53352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yIndependent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1=MyValu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Var2=MyValu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42640" y="2286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286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4520" y="4932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 (W1)"/>
              </a:rPr>
              <a:t>Namespace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5:03:19Z</dcterms:created>
  <dc:creator>IBM</dc:creator>
  <dc:description/>
  <dc:language>en-US</dc:language>
  <cp:lastModifiedBy>IBM</cp:lastModifiedBy>
  <dcterms:modified xsi:type="dcterms:W3CDTF">2005-10-17T15:54:59Z</dcterms:modified>
  <cp:revision>4</cp:revision>
  <dc:subject/>
  <dc:title>PowerPoint Presentation</dc:title>
</cp:coreProperties>
</file>