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0C2-E5BD-4B7E-92F7-FA900037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123-09D1-4454-9FBA-7E6BE61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ADD-36AE-4383-8304-35CE925E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7CC-05ED-4203-9A04-FEF0750F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585-AE37-4E65-82B4-CEBDEE02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974-63EB-4C7B-BB35-A2E77CD9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BE2-CBAF-4B0E-8306-F7334A7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F74-8D17-4AA9-9E9E-31C6E24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F46-09D7-49D8-9E19-D1A9537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339-C579-4C53-9664-5A69A004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E11-0B7D-4553-9192-C17BC439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7C3-3286-4AF6-B768-9C0BB8A7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5B9D-E7E6-4760-B4D5-F37A1314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de1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1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1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1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lide1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1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lide1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1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1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1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lide2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2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lide2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2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2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2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lide2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2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lide2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de2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30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lide31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de32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lide33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lide3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de4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5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6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7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de8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9" descr=""/>
          <p:cNvPicPr/>
          <p:nvPr/>
        </p:nvPicPr>
        <p:blipFill>
          <a:blip r:embed="rId1"/>
          <a:stretch/>
        </p:blipFill>
        <p:spPr>
          <a:xfrm>
            <a:off x="0" y="0"/>
            <a:ext cx="1005048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6:44:46Z</dcterms:created>
  <dc:creator>IBM</dc:creator>
  <dc:description/>
  <dc:language>en-US</dc:language>
  <cp:lastModifiedBy>IBM</cp:lastModifiedBy>
  <dcterms:modified xsi:type="dcterms:W3CDTF">2004-11-08T16:45:07Z</dcterms:modified>
  <cp:revision>34</cp:revision>
  <dc:subject/>
  <dc:title>PowerPoint Presentation</dc:title>
</cp:coreProperties>
</file>