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5F1-F25A-42E3-81EC-3E380D7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1A0-2311-4FAA-8B3B-E2468A2F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F28-BD2A-442E-A1C6-7E679FC6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0B6-EBC1-472E-9FAF-2B9F34E6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8B2-FBC7-4EB9-AF8F-89A77FC1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331-0C1C-48FD-B5C4-9994784B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546-988F-42B9-AFC9-04F25173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F22-8674-4700-8BD1-33BB5553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6D1-E113-43C8-B2C9-B7C0F7E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896-8670-48E7-B325-FBFFB6B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067-52B8-4E9F-A03E-0016EC6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131-B138-4674-BC4E-16F62DC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354-AD1A-44D2-B2C6-1BE4128E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2895480"/>
            <a:ext cx="100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33520"/>
            <a:ext cx="1828800" cy="1828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1=Global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2=Global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880"/>
            <a:ext cx="167616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1=WAS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2=WAS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666880"/>
            <a:ext cx="16002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1=DB2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2=DB2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724280"/>
            <a:ext cx="213336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SphereFV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lobalVar2=OverrideGlobal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1=WASValu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2=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Var2=Override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3352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yIndependent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1=My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2=My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42640" y="2286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286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4520" y="4932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 (W1)"/>
              </a:rPr>
              <a:t>Namespace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5:03:19Z</dcterms:created>
  <dc:creator>IBM</dc:creator>
  <dc:description/>
  <dc:language>en-US</dc:language>
  <cp:lastModifiedBy>IBM</cp:lastModifiedBy>
  <dcterms:modified xsi:type="dcterms:W3CDTF">2005-10-17T15:54:59Z</dcterms:modified>
  <cp:revision>4</cp:revision>
  <dc:subject/>
  <dc:title>PowerPoint Presentation</dc:title>
</cp:coreProperties>
</file>