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9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42A2-E043-411F-82F4-15C353753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7454-08BC-4AA8-9E4C-A80CC540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156F-8546-474D-8D72-E58B5E51E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EA7E-7DBC-42B2-95E1-A4FF9C06F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72E4-1A49-4F3A-9D30-98AA4985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41A2-469C-466E-8465-67B67CEB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925E-F299-421D-99CF-FDD5F4D3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4C57-3105-4C13-8CFB-4D5A1295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D59F-4EFC-47BB-9C61-5FC947F5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026C-BCC0-4A24-ABE1-B25A775F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C5E3-4D0C-467A-89DA-C75A06F2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44E5-A8EB-4437-BBF1-48CEA202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7462-6B18-4826-8C1D-2506E0710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de1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lide10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lide11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lide12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lide13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lide14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lide15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lide16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Slide17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lide18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Slide19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lide2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lide20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Slide21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Slide22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Slide23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Slide24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Slide25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Slide26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lide27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Slide28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Slide29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lide3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Slide30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Slide31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Slide32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Slide33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Slide34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lide4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lide5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lide6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lide7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lide8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lide9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16:44:46Z</dcterms:created>
  <dc:creator>IBM</dc:creator>
  <dc:description/>
  <dc:language>en-US</dc:language>
  <cp:lastModifiedBy>IBM</cp:lastModifiedBy>
  <dcterms:modified xsi:type="dcterms:W3CDTF">2004-11-08T16:45:07Z</dcterms:modified>
  <cp:revision>34</cp:revision>
  <dc:subject/>
  <dc:title>PowerPoint Presentation</dc:title>
</cp:coreProperties>
</file>