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44113" cy="7775575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20FF-1882-422C-90D6-E326D391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C667-F338-454E-853D-78D69023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218F-1DF1-48C3-AE31-4267D976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61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517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016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61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517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7122-2ABA-43EA-98D9-A0E62D0A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00160" y="672840"/>
            <a:ext cx="954072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FAD2-CD2F-48F5-8F8F-309249E6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261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517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016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261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517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55B6-AE87-4584-BEFB-B1EC435F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9456-FE7F-45D4-81B7-9B856DCB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652C-A058-4D16-8B5A-A43163B7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0160" y="672840"/>
            <a:ext cx="954072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4E85-2747-41D1-8839-512CF954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EB00-FBA8-42EF-A9E1-8A02750E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555E-9CFC-42CB-8CC3-CB31ADAE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E772-8B06-442F-94A1-2CD88AC0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192240" indent="-192240"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6640" indent="-1807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224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1922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8288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82880">
              <a:spcBef>
                <a:spcPts val="1125"/>
              </a:spcBef>
              <a:buClr>
                <a:srgbClr val="ffffff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82880">
              <a:spcBef>
                <a:spcPts val="1125"/>
              </a:spcBef>
              <a:buClr>
                <a:srgbClr val="ffffff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1680" y="622440"/>
            <a:ext cx="943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335800" y="7412040"/>
            <a:ext cx="15066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09 IBM Corpor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200160" y="7412040"/>
            <a:ext cx="403200" cy="208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1205120C-12CF-4F35-B950-13FF821DB1C5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706040" y="7412040"/>
            <a:ext cx="6527880" cy="208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>
          <a:xfrm>
            <a:off x="603360" y="7412040"/>
            <a:ext cx="1103040" cy="208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094680" y="257040"/>
            <a:ext cx="646200" cy="2685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planet image"/>
          <p:cNvPicPr/>
          <p:nvPr/>
        </p:nvPicPr>
        <p:blipFill>
          <a:blip r:embed="rId2"/>
          <a:srcRect l="0" t="0" r="0" b="404"/>
          <a:stretch/>
        </p:blipFill>
        <p:spPr>
          <a:xfrm>
            <a:off x="301680" y="4156200"/>
            <a:ext cx="9437760" cy="2530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080" y="1606680"/>
            <a:ext cx="9586800" cy="2280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1192320"/>
            <a:ext cx="943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335800" y="7412040"/>
            <a:ext cx="15066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09 IBM Corpor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094680" y="776160"/>
            <a:ext cx="646200" cy="2685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01680" y="4156200"/>
            <a:ext cx="9438840" cy="2531520"/>
            <a:chOff x="301680" y="4156200"/>
            <a:chExt cx="9438840" cy="2531520"/>
          </a:xfrm>
        </p:grpSpPr>
        <p:sp>
          <p:nvSpPr>
            <p:cNvPr id="50" name=""/>
            <p:cNvSpPr/>
            <p:nvPr/>
          </p:nvSpPr>
          <p:spPr>
            <a:xfrm>
              <a:off x="301680" y="4156200"/>
              <a:ext cx="14893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1680" y="5158800"/>
              <a:ext cx="1489320" cy="522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1680" y="6166800"/>
              <a:ext cx="4669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200" y="4156200"/>
              <a:ext cx="14893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51200" y="5158800"/>
              <a:ext cx="1489320" cy="522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273600" y="6166800"/>
              <a:ext cx="4669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9240" y="4156200"/>
              <a:ext cx="4968360" cy="520920"/>
            </a:xfrm>
            <a:custGeom>
              <a:avLst/>
              <a:gdLst/>
              <a:ahLst/>
              <a:rect l="l" t="t" r="r" b="b"/>
              <a:pathLst>
                <a:path w="2880" h="288">
                  <a:moveTo>
                    <a:pt x="0" y="0"/>
                  </a:moveTo>
                  <a:lnTo>
                    <a:pt x="0" y="288"/>
                  </a:lnTo>
                  <a:lnTo>
                    <a:pt x="2880" y="288"/>
                  </a:lnTo>
                  <a:lnTo>
                    <a:pt x="2838" y="256"/>
                  </a:lnTo>
                  <a:cubicBezTo>
                    <a:pt x="2838" y="256"/>
                    <a:pt x="2728" y="169"/>
                    <a:pt x="2660" y="134"/>
                  </a:cubicBezTo>
                  <a:cubicBezTo>
                    <a:pt x="2592" y="99"/>
                    <a:pt x="2502" y="67"/>
                    <a:pt x="2430" y="46"/>
                  </a:cubicBezTo>
                  <a:cubicBezTo>
                    <a:pt x="2358" y="25"/>
                    <a:pt x="2283" y="18"/>
                    <a:pt x="2230" y="10"/>
                  </a:cubicBez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9240" y="5158800"/>
              <a:ext cx="5510160" cy="52632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0"/>
                  </a:moveTo>
                  <a:lnTo>
                    <a:pt x="0" y="288"/>
                  </a:lnTo>
                  <a:lnTo>
                    <a:pt x="3194" y="290"/>
                  </a:lnTo>
                  <a:lnTo>
                    <a:pt x="3188" y="256"/>
                  </a:lnTo>
                  <a:cubicBezTo>
                    <a:pt x="3182" y="232"/>
                    <a:pt x="3172" y="183"/>
                    <a:pt x="3160" y="146"/>
                  </a:cubicBezTo>
                  <a:cubicBezTo>
                    <a:pt x="3146" y="103"/>
                    <a:pt x="3128" y="58"/>
                    <a:pt x="3118" y="34"/>
                  </a:cubicBezTo>
                  <a:lnTo>
                    <a:pt x="310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65080" y="6162840"/>
              <a:ext cx="1590120" cy="52488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290"/>
                  </a:moveTo>
                  <a:lnTo>
                    <a:pt x="0" y="2"/>
                  </a:lnTo>
                  <a:lnTo>
                    <a:pt x="3194" y="0"/>
                  </a:lnTo>
                  <a:lnTo>
                    <a:pt x="3176" y="156"/>
                  </a:lnTo>
                  <a:cubicBezTo>
                    <a:pt x="3169" y="198"/>
                    <a:pt x="3162" y="232"/>
                    <a:pt x="3150" y="254"/>
                  </a:cubicBezTo>
                  <a:lnTo>
                    <a:pt x="314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82120" y="6166800"/>
              <a:ext cx="148968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2200" y="1819440"/>
            <a:ext cx="9039240" cy="45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0"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63560" indent="-3240" algn="ctr">
              <a:buClr>
                <a:srgbClr val="ffffff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476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24948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24948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24948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2525760"/>
            <a:ext cx="8737560" cy="1666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s-on Automation wit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F/STAX  Parts 1 -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41360" y="1441440"/>
            <a:ext cx="37562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A – STAF Int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ic STAF Conce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TAF Web 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ting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1A (Exercise 1.1)</a:t>
            </a:r>
            <a:br>
              <a:rPr sz="1700"/>
            </a:br>
            <a:r>
              <a:rPr b="0" lang="en-US" sz="17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B – Us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istering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acting with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ic STAF Comma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1B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(E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ercises 1.2–1.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1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97600" y="1373040"/>
            <a:ext cx="42670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C – Leverag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S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Vari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ing a simple Testc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ing a STAF-enabled Testc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Java Test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STAF De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1C (Exercises 1.6-1.1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D – Debugg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1D (Exercise 1.1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4200" y="1441440"/>
            <a:ext cx="375588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2A – STAX Int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STAX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hnologies used in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 to STAX XML E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TAX Web 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 Requi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 Machine Enviro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ing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ing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 the STAX Monit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ling Execution of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ing STAX Lo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mitting STAX Reques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2A (Exercises 2.1-2.3)</a:t>
            </a:r>
            <a:br>
              <a:rPr sz="1600"/>
            </a:b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2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64080" y="1373040"/>
            <a:ext cx="5249880" cy="70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2B – Creating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 Python in STAX XML Doc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 XML to Define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ing STAX XML Eleme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damental Actions: &lt;script&gt;, &lt;process&gt;, &lt;stafcm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upings:  &lt;sequence&gt;, &lt;func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ing:  &lt;loop&gt;, &lt;iterate&gt;, &lt;break&gt;, &lt;continu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itionals:  &lt;if&gt;, &lt;elseif&gt;, &lt;els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ution Blocks:  &lt;block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ging and Messages:  &lt;log&gt;, &lt;messag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ing a Simple STAX Jo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2C (Exercises 2.4-2.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2C – Creating more complex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ing Additional STAX XML Eleme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llel Execution:  &lt;parallel&gt;, &lt;paralleliterat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stcases and Timers:  &lt;testcase&gt;, &lt;tcstatus&gt;, &lt;tim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2C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(Exercises 2.6-2.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41360" y="1373040"/>
            <a:ext cx="398484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A – Additional STAF Service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SExt, Z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, Res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ust,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ay, Mis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feCy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3A (Exercise 3.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B – Additional STAF Services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ail, 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3B (Exercise 3.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3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6200" y="1347840"/>
            <a:ext cx="4495680" cy="60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C – Advanced Topic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riting custom STAF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C++, Perl, Python, and Tcl Test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shell-scri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shalled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vate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3C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(Exercise 3.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D – Advanced Topics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tomation Tas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-to-end Automation with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ys to successful STAF/STAX deploy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Eclipse Plug-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ibuting to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41360" y="1373040"/>
            <a:ext cx="375624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A – Additional STAX E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als and Exceptions:  &lt;raise&gt;, &lt;signalhander&gt;, &lt;try&gt;, &lt;catch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ing Function Arg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 File and Machine Cach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4A (Exercise 4.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B – Sample STAX Job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Nothing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otepadProces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DelayRequest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eckSTAFCmdRC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TestProces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Script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tionParameter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tionParametersLogging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 4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4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97600" y="1297080"/>
            <a:ext cx="4944960" cy="69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C – Sample STAX Jobs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Function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ock.xml,  Parallel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.xml,  Testcase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r.xml,  Email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Time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 4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D – Advanced Top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D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 Exten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 Vari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Util Fun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ational Quality 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Global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4D (Exercises 4.2-4.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E –  STAX Debugg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eption Stack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reakpo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 4E (Exercise 4.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david</cp:lastModifiedBy>
  <dcterms:modified xsi:type="dcterms:W3CDTF">2011-01-26T15:57:11Z</dcterms:modified>
  <cp:revision>362</cp:revision>
  <dc:subject/>
  <dc:title>Slide 1</dc:title>
</cp:coreProperties>
</file>