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561AF-2B44-4E01-B40A-63F3B534B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3FDFE-CB7D-4619-B29D-711606747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E7074-4919-4232-85DD-112984A82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EB14B-CC6E-40DE-A03A-FFB7D5837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52004-93AA-4305-95BF-20E79DE02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217BB-691C-45E5-8C74-7A4EF6B9B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58F59-5105-45C3-9272-1752F7CB0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2D3EA-7C8D-4FDA-90AF-AF380297B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14863-E792-4EA3-9085-A5462DF9E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7E46D-DE25-4986-9E04-14CA6E6F9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1B74D-6E14-4CD0-9669-4CAB310F2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3473D-F098-4F1F-AD66-D80E75167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95CF7-4CA4-4E47-A718-A762EDC518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43400" y="1143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657600" y="2895480"/>
            <a:ext cx="10065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219320" y="533520"/>
            <a:ext cx="1828800" cy="182880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7575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obalVar1=GlobalValue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obalVar2=GlobalValue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04920" y="2666880"/>
            <a:ext cx="1676160" cy="167652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7575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SVar1=WASValue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SVar2=WASValue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86000" y="2666880"/>
            <a:ext cx="1600200" cy="167652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7575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B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B2Var1=DB2Value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B2Var2=DB2Value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6320" y="4724280"/>
            <a:ext cx="2133360" cy="198144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7575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ebSphereFV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GlobalVar2=OverrideGlobalValue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ASSVTVar1=WASValue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ASSVTVar2=WASValue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ASVar2=OverrideWASValue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581280" y="533520"/>
            <a:ext cx="2057400" cy="175248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7575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yIndependent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yVar1=MyValue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yVar2=MyValue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1142640" y="2286000"/>
            <a:ext cx="60948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438280" y="2286000"/>
            <a:ext cx="60984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143000" y="43434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666880" y="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244520" y="49320"/>
            <a:ext cx="333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G Times (W1)"/>
              </a:rPr>
              <a:t>Namespace Hierarch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7T15:03:19Z</dcterms:created>
  <dc:creator>IBM</dc:creator>
  <dc:description/>
  <dc:language>en-US</dc:language>
  <cp:lastModifiedBy>IBM</cp:lastModifiedBy>
  <dcterms:modified xsi:type="dcterms:W3CDTF">2005-10-17T15:54:59Z</dcterms:modified>
  <cp:revision>4</cp:revision>
  <dc:subject/>
  <dc:title>PowerPoint Presentation</dc:title>
</cp:coreProperties>
</file>