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6AD-9564-4EAD-8288-6EB7BD81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8A0-F146-4C64-B3EB-DC3A1E5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78F-F503-47D7-9C5B-A919EE86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1EE-01AC-4768-A981-D560D536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F66-C45A-4DD4-8A5B-0F84A547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DA9-2E60-4EC1-A3DA-241CB0B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059-B971-45BD-9AE1-CD09934A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228-1287-4862-BFCA-F0B8AD1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E81-5B9B-4FD7-B04A-C4374C9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C06-22C5-4F21-86E6-BB49397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73F-F2DE-4088-96D4-E6FEBF4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1E5-E4D7-47E0-A5C8-3AE15E7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566-38BB-4165-8898-40587980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1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1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1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de1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1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de1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1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1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1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de2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2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de2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2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2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2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de2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2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de2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de2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de3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de3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de3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de3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3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6:44:46Z</dcterms:created>
  <dc:creator>IBM</dc:creator>
  <dc:description/>
  <dc:language>en-US</dc:language>
  <cp:lastModifiedBy>IBM</cp:lastModifiedBy>
  <dcterms:modified xsi:type="dcterms:W3CDTF">2004-11-08T16:45:07Z</dcterms:modified>
  <cp:revision>34</cp:revision>
  <dc:subject/>
  <dc:title>PowerPoint Presentation</dc:title>
</cp:coreProperties>
</file>